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E549-5144-4EB8-9932-FE979920A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E0CE-ABC5-4D3B-8D46-9AA73D49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EA3C-A313-4EE9-9B13-C6BA388C3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6CD7-7478-4A34-8D26-9DC33A0C2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5FED-FD5B-4A49-AD66-F21B0DA31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DB41-95A1-4372-AABC-079C605D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CF52-F32E-4319-B2DB-52F099DC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9A6D-BE16-481C-93A9-9B89630C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3348-3B14-41AD-82BB-81BD46A1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BCC7-B880-4CA3-A792-9615BC1F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F045-E8F8-422D-B4E4-1A63D64F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FB60-3E45-49B3-891B-CBBAEE4E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93CC-6843-4E62-AF3A-475C721F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4AA3-03DF-4EDA-8D51-9D356B43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09A3-7B17-4503-9233-E86F7B02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6CAD-3636-46FB-B679-A25E18CA6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660B-034E-4275-9F41-284AB260E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205A-1AFB-40DC-953E-3DD1EBED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9179-FE80-4A7B-BEBB-FE40278D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B378-A3E5-4057-AA27-582EA968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173E-9628-428D-9796-B752BDC5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493A-46DC-4261-BB5F-1E974A8A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70F0-320C-45C8-A0B6-345A002B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7100-55E0-4CF3-B787-462DDFCE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CFED-C710-4452-9FB6-B6FA39DAC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ECD6-CFDC-44C7-BCC7-1760D052F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Make a book of arrays!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Natalie Juerge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Facts from 1 to 12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76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ive students a booklet of 12 pages, and a few pages of grid pap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ave them build arrays for facts relates to the pages numb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r example, these arrays could be found on page 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037120" y="3332160"/>
          <a:ext cx="1568520" cy="971640"/>
        </p:xfrm>
        <a:graphic>
          <a:graphicData uri="http://schemas.openxmlformats.org/drawingml/2006/table">
            <a:tbl>
              <a:tblPr/>
              <a:tblGrid>
                <a:gridCol w="312840"/>
                <a:gridCol w="315720"/>
                <a:gridCol w="311400"/>
                <a:gridCol w="315720"/>
                <a:gridCol w="3128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5259240" y="2590920"/>
            <a:ext cx="12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x 5 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748560" y="5168880"/>
          <a:ext cx="1423800" cy="503280"/>
        </p:xfrm>
        <a:graphic>
          <a:graphicData uri="http://schemas.openxmlformats.org/drawingml/2006/table">
            <a:tbl>
              <a:tblPr/>
              <a:tblGrid>
                <a:gridCol w="284400"/>
                <a:gridCol w="284760"/>
                <a:gridCol w="285120"/>
                <a:gridCol w="284400"/>
                <a:gridCol w="285120"/>
              </a:tblGrid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4648320" y="3581280"/>
            <a:ext cx="190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0" y="4724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x 5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934320" y="2209680"/>
          <a:ext cx="1523880" cy="242640"/>
        </p:xfrm>
        <a:graphic>
          <a:graphicData uri="http://schemas.openxmlformats.org/drawingml/2006/table">
            <a:tbl>
              <a:tblPr/>
              <a:tblGrid>
                <a:gridCol w="304560"/>
                <a:gridCol w="304920"/>
                <a:gridCol w="304560"/>
                <a:gridCol w="304920"/>
                <a:gridCol w="3049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6858000" y="1828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x 5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Adding challeng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ave students write a fact family for each arra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ave students compare pages to make sure they have covered all the possible array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ave students identify patterns on each pa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9T17:10:18Z</dcterms:created>
  <dc:creator> </dc:creator>
  <dc:description/>
  <dc:language>en-US</dc:language>
  <cp:lastModifiedBy> </cp:lastModifiedBy>
  <dcterms:modified xsi:type="dcterms:W3CDTF">2008-04-29T17:12:53Z</dcterms:modified>
  <cp:revision>3</cp:revision>
  <dc:subject/>
  <dc:title>Make a book of arrays!</dc:title>
</cp:coreProperties>
</file>